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D1F8C-FCA2-4DB3-B6BD-262EF4316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3392E-0E4D-41CE-881D-2E2BA87F9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2F613-D182-4DFA-A0FD-AF4CEC8E1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8A4A3-CE15-4844-A341-AE97063F6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DD428-DD4B-47F1-ABA1-7739F4AFF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2607E-30E3-41FC-A979-1647D26A0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0D2FA-3F59-4BC8-9971-DC5A869D7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76D02-124E-46ED-A5F7-2B0284016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BB0DD-7E9B-445E-AF5A-A317AE1B5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317ED-D573-4E76-A864-B283F1EED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8ECD-6081-43BA-8E71-F6B030D6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264F-FAC5-4EDE-9CB4-5E0FF5088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0B16-822F-4444-AAE8-32E1DE026C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Y OF CARDIOVASCULAR SYSTEM</a:t>
            </a:r>
            <a:endParaRPr b="0" lang="en-US" sz="3200" spc="-1" strike="noStrike">
              <a:solidFill>
                <a:srgbClr val="000000"/>
              </a:solidFill>
              <a:latin typeface="Calibri"/>
            </a:endParaRPr>
          </a:p>
        </p:txBody>
      </p:sp>
      <p:pic>
        <p:nvPicPr>
          <p:cNvPr id="42" name="Picture 4" descr=""/>
          <p:cNvPicPr/>
          <p:nvPr/>
        </p:nvPicPr>
        <p:blipFill>
          <a:blip r:embed="rId1"/>
          <a:stretch/>
        </p:blipFill>
        <p:spPr>
          <a:xfrm>
            <a:off x="3429000" y="0"/>
            <a:ext cx="1990800" cy="1905120"/>
          </a:xfrm>
          <a:prstGeom prst="rect">
            <a:avLst/>
          </a:prstGeom>
          <a:ln w="0">
            <a:noFill/>
          </a:ln>
        </p:spPr>
      </p:pic>
      <p:pic>
        <p:nvPicPr>
          <p:cNvPr id="43" name="Picture 5" descr="Kardiologija - Kardiovaskularni sistem - DIjanogstika i lečenje"/>
          <p:cNvPicPr/>
          <p:nvPr/>
        </p:nvPicPr>
        <p:blipFill>
          <a:blip r:embed="rId2"/>
          <a:stretch/>
        </p:blipFill>
        <p:spPr>
          <a:xfrm>
            <a:off x="2362320" y="3718080"/>
            <a:ext cx="4192560" cy="31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Myocardial ischemia: physiological aspects of coronary blood flow</a:t>
            </a:r>
            <a:endParaRPr b="0" lang="en-US" sz="2800" spc="-1" strike="noStrike">
              <a:solidFill>
                <a:srgbClr val="000000"/>
              </a:solidFill>
              <a:latin typeface="Calibri"/>
            </a:endParaRPr>
          </a:p>
        </p:txBody>
      </p:sp>
      <p:sp>
        <p:nvSpPr>
          <p:cNvPr id="67"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Normal coronary flow is 60-90ml/100g of myocardiu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t decreases by about 50% in hypothermia and can increase 4-5 times during physical exer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Under normal circumstances, the myocardium consumes almost all of its oxygen, so an increase in oxygen consumption can only be achieved by increasing flo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When the lumen of the artery is reduced to 50% in diameter (75% in area), the manifestation of ischemia occurs during exertion, and when it narrows to 80% in diameter (96% in area) and at res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Myocardial ischemia</a:t>
            </a:r>
            <a:endParaRPr b="0" lang="en-US" sz="3600" spc="-1" strike="noStrike">
              <a:solidFill>
                <a:srgbClr val="000000"/>
              </a:solidFill>
              <a:latin typeface="Calibri"/>
            </a:endParaRPr>
          </a:p>
        </p:txBody>
      </p:sp>
      <p:sp>
        <p:nvSpPr>
          <p:cNvPr id="69"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yocardial ischemia occurs when there is an imbalance between the blood supply to the myocardium and the oxygen needs of the myocardium.</a:t>
            </a:r>
            <a:endParaRPr b="0" lang="en-US" sz="2400" spc="-1" strike="noStrike">
              <a:solidFill>
                <a:srgbClr val="000000"/>
              </a:solidFill>
              <a:latin typeface="Calibri"/>
            </a:endParaRPr>
          </a:p>
        </p:txBody>
      </p:sp>
      <p:pic>
        <p:nvPicPr>
          <p:cNvPr id="70" name="Picture 3" descr="Ischemic heart disease. Stenting and coronary artery bypass | MED Expert"/>
          <p:cNvPicPr/>
          <p:nvPr/>
        </p:nvPicPr>
        <p:blipFill>
          <a:blip r:embed="rId1"/>
          <a:stretch/>
        </p:blipFill>
        <p:spPr>
          <a:xfrm>
            <a:off x="2819520" y="2895480"/>
            <a:ext cx="4419360" cy="330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Myocardial oxygen supply</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Hemodynamic factors </a:t>
            </a:r>
            <a:r>
              <a:rPr b="0" lang="en-US" sz="2200" spc="-1" strike="noStrike">
                <a:solidFill>
                  <a:srgbClr val="000000"/>
                </a:solidFill>
                <a:latin typeface="Palatino Linotype"/>
              </a:rPr>
              <a:t>(increased coronary blood vessel resistance, hypotension, reduced blood volum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Factors from the heart </a:t>
            </a:r>
            <a:r>
              <a:rPr b="0" lang="en-US" sz="2200" spc="-1" strike="noStrike">
                <a:solidFill>
                  <a:srgbClr val="000000"/>
                </a:solidFill>
                <a:latin typeface="Palatino Linotype"/>
              </a:rPr>
              <a:t>(decreased diastolic filling time, increased heart rate, valvular defect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Hematological factors </a:t>
            </a:r>
            <a:r>
              <a:rPr b="0" lang="en-US" sz="2200" spc="-1" strike="noStrike">
                <a:solidFill>
                  <a:srgbClr val="000000"/>
                </a:solidFill>
                <a:latin typeface="Palatino Linotype"/>
              </a:rPr>
              <a:t>(blood oxygen concentra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Systemic disorders that reduce blood flow </a:t>
            </a:r>
            <a:r>
              <a:rPr b="0" lang="en-US" sz="2200" spc="-1" strike="noStrike">
                <a:solidFill>
                  <a:srgbClr val="000000"/>
                </a:solidFill>
                <a:latin typeface="Palatino Linotype"/>
              </a:rPr>
              <a:t>(sho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Oxygen requirements of the myocardium</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reased heart ra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reased heart contractil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Ventricular wall stress (increase in the volume of ventricles, myocardial hypertrophy, and increase in intraventricular press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events during myocardial ischemia</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fter 10s of coronary artery occlusion, the myocardium becomes ischemic, metabolic changes occur and that part of the myocardium becomes non-functiona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fter 30-60s, ECG changes are presen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fter a few minutes, contractile dysfunction occu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cells remain viable up to 20 minutes after the occurrence of occlusion, and if perfusion is established in that time, the recovery process begins, and if not, necrosis (infarction) occu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Local metabolic changes in myocardial ischemia</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ack of energy sources (high-energy phosphates and gluco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xygen depletion and anaerobic condition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amount of glycogen decreases, anaerobic glycolysis occurs (supplying a maximum of 60-75% of the energy needs of the myocardiu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ormation and accumulation of lactate with consequent local acidosis (the buffering capacity of the myocardium is lo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fflux of potassium, calcium, and magnesium 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ystemic metabolic changes in myocardial ischemia</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 physiological conditions, the myocardium takes up considerable amounts of catecholamines, and in ischemia it releases them, leading to:</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mpathetic-parasympathetic imbalances 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numerous systemic metabolic chang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crease in free fatty acids (they have a detergent effect on cell membran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glycerol (during the first hour) 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yperglycemia (after 72 hou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Consequences of myocardial ischemia</a:t>
            </a:r>
            <a:endParaRPr b="0" lang="en-US" sz="3200" spc="-1" strike="noStrike">
              <a:solidFill>
                <a:srgbClr val="000000"/>
              </a:solidFill>
              <a:latin typeface="Calibri"/>
            </a:endParaRPr>
          </a:p>
        </p:txBody>
      </p:sp>
      <p:sp>
        <p:nvSpPr>
          <p:cNvPr id="82" name=""/>
          <p:cNvSpPr txBox="1"/>
          <p:nvPr/>
        </p:nvSpPr>
        <p:spPr>
          <a:xfrm>
            <a:off x="457200" y="1066680"/>
            <a:ext cx="8229600" cy="505944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etabolic changes are the cause of contractile dysfunction and disturbances in the electrical activity of the heart (arrhythmia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nifestations of contractile dysfunction:</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aradoxical movements of the heart walls (segmental outbursts) due to reduced systolic contractile function of the affected areas of the heart</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nsequent increased work by ischemia of the unaffected zones in order to compensate, and in the event that it is not sufficient, systolic dysfunction of the left ventricle occur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duced diastolic relaxation with a consequent increase in resistance to ventricular fill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stolic dysfunction (contractility) and diastolic dysfunction (increase in end-diastolic pressure) lead to heart fail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linical manifestations of myocardial ischemia</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alatino Linotype"/>
              </a:rPr>
              <a:t>1. </a:t>
            </a:r>
            <a:r>
              <a:rPr b="0" i="1" lang="fr-FR" sz="2400" spc="-1" strike="noStrike">
                <a:solidFill>
                  <a:srgbClr val="000000"/>
                </a:solidFill>
                <a:latin typeface="Palatino Linotype"/>
              </a:rPr>
              <a:t>Angina pectoris stabilis et Angina pectoris non stabil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2. Infarctus myocardi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3. Arrythmiae cord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4. Insuffitientio cord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5. Mors subi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yocardial ischemia: Angina pectoris stabilis</a:t>
            </a:r>
            <a:endParaRPr b="0" lang="en-US" sz="3200" spc="-1" strike="noStrike">
              <a:solidFill>
                <a:srgbClr val="000000"/>
              </a:solidFill>
              <a:latin typeface="Calibri"/>
            </a:endParaRPr>
          </a:p>
        </p:txBody>
      </p:sp>
      <p:sp>
        <p:nvSpPr>
          <p:cNvPr id="86"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finition: Angina pectoris stabilis is a form of myocardial ischemia in which the frequency, intensity, duration, and threshold of chest pain are constant over the past 2 month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 stable atherogenic plaque (fixed narrowing of the coronary arter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linical manifest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hest pain: accumulation of lactate with ischemic wall stress and activation of "stretch" receptors -&gt; afferent fibers enter at C3-Th4 leve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llor, sweating, dyspnea, jump in arterial pressur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CG changes present only during pain attack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egative biohumoral syndrome of myocyte necro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Anatomy and physiology of cardiovascular system</a:t>
            </a:r>
            <a:endParaRPr b="0" lang="en-US" sz="3200" spc="-1" strike="noStrike">
              <a:solidFill>
                <a:srgbClr val="000000"/>
              </a:solidFill>
              <a:latin typeface="Calibri"/>
            </a:endParaRPr>
          </a:p>
        </p:txBody>
      </p:sp>
      <p:sp>
        <p:nvSpPr>
          <p:cNvPr id="45" name=""/>
          <p:cNvSpPr txBox="1"/>
          <p:nvPr/>
        </p:nvSpPr>
        <p:spPr>
          <a:xfrm>
            <a:off x="2819520" y="5257440"/>
            <a:ext cx="3504960" cy="109234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endParaRPr b="0" lang="en-US" sz="1400" spc="-1" strike="noStrike">
              <a:solidFill>
                <a:srgbClr val="000000"/>
              </a:solidFill>
              <a:latin typeface="Calibri"/>
            </a:endParaRPr>
          </a:p>
        </p:txBody>
      </p:sp>
      <p:sp>
        <p:nvSpPr>
          <p:cNvPr id="46" name="Rectangle 11"/>
          <p:cNvSpPr/>
          <p:nvPr/>
        </p:nvSpPr>
        <p:spPr>
          <a:xfrm>
            <a:off x="304920" y="1309680"/>
            <a:ext cx="5257800" cy="4775760"/>
          </a:xfrm>
          <a:prstGeom prst="rect">
            <a:avLst/>
          </a:prstGeom>
          <a:solidFill>
            <a:srgbClr val="f8f9fa"/>
          </a:solidFill>
          <a:ln w="0">
            <a:noFill/>
          </a:ln>
        </p:spPr>
        <p:style>
          <a:lnRef idx="0"/>
          <a:fillRef idx="0"/>
          <a:effectRef idx="0"/>
          <a:fontRef idx="minor"/>
        </p:style>
        <p:txBody>
          <a:bodyPr lIns="0" rIns="0" tIns="-12600" bIns="-12600" anchor="ctr">
            <a:spAutoFit/>
          </a:bodyPr>
          <a:p>
            <a:pPr marL="343080" indent="-343080">
              <a:lnSpc>
                <a:spcPct val="100000"/>
              </a:lnSpc>
              <a:buClr>
                <a:srgbClr val="2021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02124"/>
                </a:solidFill>
                <a:latin typeface="inherit"/>
              </a:rPr>
              <a:t>H</a:t>
            </a:r>
            <a:r>
              <a:rPr b="0" lang="sr-Latn-RS" sz="2100" spc="-1" strike="noStrike">
                <a:solidFill>
                  <a:srgbClr val="202124"/>
                </a:solidFill>
                <a:latin typeface="inherit"/>
              </a:rPr>
              <a:t>eart: a pump that creates a pressure difference between the arteries and veins, which allows blood to move through the blood vessels</a:t>
            </a:r>
            <a:r>
              <a:rPr b="0" lang="en-US" sz="2100" spc="-1" strike="noStrike">
                <a:solidFill>
                  <a:srgbClr val="202124"/>
                </a:solidFill>
                <a:latin typeface="inherit"/>
              </a:rPr>
              <a:t>.</a:t>
            </a:r>
            <a:endParaRPr b="0" lang="en-US" sz="2100" spc="-1" strike="noStrike">
              <a:solidFill>
                <a:srgbClr val="000000"/>
              </a:solidFill>
              <a:latin typeface="Arial"/>
            </a:endParaRPr>
          </a:p>
          <a:p>
            <a:pPr marL="343080" indent="-343080">
              <a:lnSpc>
                <a:spcPct val="100000"/>
              </a:lnSpc>
              <a:buClr>
                <a:srgbClr val="2021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202124"/>
                </a:solidFill>
                <a:latin typeface="inherit"/>
              </a:rPr>
              <a:t>Vascular system: Transports nutrients to tissues</a:t>
            </a:r>
            <a:r>
              <a:rPr b="0" lang="en-US" sz="2100" spc="-1" strike="noStrike">
                <a:solidFill>
                  <a:srgbClr val="202124"/>
                </a:solidFill>
                <a:latin typeface="inherit"/>
              </a:rPr>
              <a:t>,</a:t>
            </a:r>
            <a:r>
              <a:rPr b="0" lang="sr-Latn-RS" sz="2100" spc="-1" strike="noStrike">
                <a:solidFill>
                  <a:srgbClr val="202124"/>
                </a:solidFill>
                <a:latin typeface="inherit"/>
              </a:rPr>
              <a:t> transports and enables the exchange of oxygen and carbon dioxide</a:t>
            </a:r>
            <a:r>
              <a:rPr b="0" lang="en-US" sz="2100" spc="-1" strike="noStrike">
                <a:solidFill>
                  <a:srgbClr val="202124"/>
                </a:solidFill>
                <a:latin typeface="inherit"/>
              </a:rPr>
              <a:t>,</a:t>
            </a:r>
            <a:r>
              <a:rPr b="0" lang="sr-Latn-RS" sz="2100" spc="-1" strike="noStrike">
                <a:solidFill>
                  <a:srgbClr val="202124"/>
                </a:solidFill>
                <a:latin typeface="inherit"/>
              </a:rPr>
              <a:t> It transports the products of metabolism from the tissues to the organs for elimination</a:t>
            </a:r>
            <a:r>
              <a:rPr b="0" lang="en-US" sz="2100" spc="-1" strike="noStrike">
                <a:solidFill>
                  <a:srgbClr val="202124"/>
                </a:solidFill>
                <a:latin typeface="inherit"/>
              </a:rPr>
              <a:t>, t</a:t>
            </a:r>
            <a:r>
              <a:rPr b="0" lang="sr-Latn-RS" sz="2100" spc="-1" strike="noStrike">
                <a:solidFill>
                  <a:srgbClr val="202124"/>
                </a:solidFill>
                <a:latin typeface="inherit"/>
              </a:rPr>
              <a:t>ransports hormones from endocrine glands to target tissues</a:t>
            </a:r>
            <a:r>
              <a:rPr b="0" lang="en-US" sz="2100" spc="-1" strike="noStrike">
                <a:solidFill>
                  <a:srgbClr val="202124"/>
                </a:solidFill>
                <a:latin typeface="inherit"/>
              </a:rPr>
              <a:t>.</a:t>
            </a:r>
            <a:r>
              <a:rPr b="0" lang="sr-Latn-RS" sz="2100" spc="-1" strike="noStrike">
                <a:solidFill>
                  <a:srgbClr val="202124"/>
                </a:solidFill>
                <a:latin typeface="inherit"/>
              </a:rPr>
              <a:t> It prevents enormous bleeding</a:t>
            </a:r>
            <a:r>
              <a:rPr b="0" lang="en-US" sz="2100" spc="-1" strike="noStrike">
                <a:solidFill>
                  <a:srgbClr val="202124"/>
                </a:solidFill>
                <a:latin typeface="inherit"/>
              </a:rPr>
              <a:t>.</a:t>
            </a:r>
            <a:r>
              <a:rPr b="0" lang="sr-Latn-RS" sz="2100" spc="-1" strike="noStrike">
                <a:solidFill>
                  <a:srgbClr val="202124"/>
                </a:solidFill>
                <a:latin typeface="inherit"/>
              </a:rPr>
              <a:t> Participates in infection control It participates in the regulation of body temperatu</a:t>
            </a:r>
            <a:r>
              <a:rPr b="0" lang="en-US" sz="2100" spc="-1" strike="noStrike">
                <a:solidFill>
                  <a:srgbClr val="202124"/>
                </a:solidFill>
                <a:latin typeface="inherit"/>
              </a:rPr>
              <a:t>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Palatino Linotype"/>
              </a:rPr>
              <a:t>Myocardial ischemia: Angina pectoris non-stabilis</a:t>
            </a:r>
            <a:endParaRPr b="0" lang="en-US" sz="3200" spc="-1" strike="noStrike">
              <a:solidFill>
                <a:srgbClr val="000000"/>
              </a:solidFill>
              <a:latin typeface="Calibri"/>
            </a:endParaRPr>
          </a:p>
        </p:txBody>
      </p:sp>
      <p:sp>
        <p:nvSpPr>
          <p:cNvPr id="88"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finition: Angina pectoris non stabilis is a transitional syndrome between myocardial ischemia and myocardial necrosis, and includ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ewly developed angina pector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rogressive (crescendo) - stronger and longer pains that occur at a decreasing load threshold an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pontaneous angina pectoris (pain occurs at res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 a combination of dynamic and static coronary narrow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rteri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unstable atherosclerotic plaque o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able plaque with accompanying vasoconstri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pecial forms of Angina pectoris</a:t>
            </a:r>
            <a:endParaRPr b="0" lang="en-US" sz="3200" spc="-1" strike="noStrike">
              <a:solidFill>
                <a:srgbClr val="000000"/>
              </a:solidFill>
              <a:latin typeface="Calibri"/>
            </a:endParaRPr>
          </a:p>
        </p:txBody>
      </p:sp>
      <p:sp>
        <p:nvSpPr>
          <p:cNvPr id="9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Printzmetal's (vasospastic, variant) angina </a:t>
            </a:r>
            <a:r>
              <a:rPr b="0" lang="en-US" sz="2000" spc="-1" strike="noStrike">
                <a:solidFill>
                  <a:srgbClr val="000000"/>
                </a:solidFill>
                <a:latin typeface="Palatino Linotype"/>
              </a:rPr>
              <a:t>pectoris is a form of transmural myocardial ischemia that occurs at rest and during sleep (in the REM phase), accompanied by elevation of the ST segment in the ECG. The cause is sympathetic hyperactivity + increased calcium influx + endothelial dysfunction (reduced synthesis of vasodilatory prostaglandi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No (silent) angina pectoris </a:t>
            </a:r>
            <a:r>
              <a:rPr b="0" lang="en-US" sz="2000" spc="-1" strike="noStrike">
                <a:solidFill>
                  <a:srgbClr val="000000"/>
                </a:solidFill>
                <a:latin typeface="Palatino Linotype"/>
              </a:rPr>
              <a:t>is a form of myocardial ischemia that occurs without pai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Microvascular angina pectoris (cardiac syndrome X) </a:t>
            </a:r>
            <a:r>
              <a:rPr b="0" lang="en-US" sz="2000" spc="-1" strike="noStrike">
                <a:solidFill>
                  <a:srgbClr val="000000"/>
                </a:solidFill>
                <a:latin typeface="Palatino Linotype"/>
              </a:rPr>
              <a:t>is a form with the appearance of anginal complaints and ECG changes during exertion, but with morphologically normal coronary arteries. The disorder is at the level of small intramural blood vessels (small arteries and arterioles). The cause is endothelium dysfunction and general hypercontractility of smooth muscle cel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Heart attack</a:t>
            </a:r>
            <a:endParaRPr b="0" lang="en-US" sz="3200" spc="-1" strike="noStrike">
              <a:solidFill>
                <a:srgbClr val="000000"/>
              </a:solidFill>
              <a:latin typeface="Calibri"/>
            </a:endParaRPr>
          </a:p>
        </p:txBody>
      </p:sp>
      <p:sp>
        <p:nvSpPr>
          <p:cNvPr id="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infarction is cell death (necrosis) of part of the myocardium due to irreversible hypoxi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infarction is the end point of the ischemic heart disease continuum (coronary artery disease -&gt; myocardial ischemia -&gt; myocardial infarction).</a:t>
            </a:r>
            <a:endParaRPr b="0" lang="en-US" sz="2200" spc="-1" strike="noStrike">
              <a:solidFill>
                <a:srgbClr val="000000"/>
              </a:solidFill>
              <a:latin typeface="Calibri"/>
            </a:endParaRPr>
          </a:p>
        </p:txBody>
      </p:sp>
      <p:pic>
        <p:nvPicPr>
          <p:cNvPr id="93" name="Picture 3" descr="Myocardial infarction - Wikipedia"/>
          <p:cNvPicPr/>
          <p:nvPr/>
        </p:nvPicPr>
        <p:blipFill>
          <a:blip r:embed="rId1"/>
          <a:stretch/>
        </p:blipFill>
        <p:spPr>
          <a:xfrm>
            <a:off x="2895480" y="3352680"/>
            <a:ext cx="3505320" cy="32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Etiology of myocardial infarction</a:t>
            </a:r>
            <a:endParaRPr b="0" lang="en-US" sz="3200" spc="-1" strike="noStrike">
              <a:solidFill>
                <a:srgbClr val="000000"/>
              </a:solidFill>
              <a:latin typeface="Calibri"/>
            </a:endParaRPr>
          </a:p>
        </p:txBody>
      </p:sp>
      <p:sp>
        <p:nvSpPr>
          <p:cNvPr id="95"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issure or hemorrhage in atherogenic plaqu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nsequent increase in platelet aggregation, thrombosis with local obstruction and/o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vasoconstriction with the possibility of distal embolism (thrombus or atherogenic mater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Etiology of heart attack</a:t>
            </a:r>
            <a:endParaRPr b="0" lang="en-US" sz="3200" spc="-1" strike="noStrike">
              <a:solidFill>
                <a:srgbClr val="000000"/>
              </a:solidFill>
              <a:latin typeface="Calibri"/>
            </a:endParaRPr>
          </a:p>
        </p:txBody>
      </p:sp>
      <p:sp>
        <p:nvSpPr>
          <p:cNvPr id="97" name=""/>
          <p:cNvSpPr txBox="1"/>
          <p:nvPr/>
        </p:nvSpPr>
        <p:spPr>
          <a:xfrm>
            <a:off x="304560" y="1219320"/>
            <a:ext cx="8381880" cy="4906800"/>
          </a:xfrm>
          <a:prstGeom prst="rect">
            <a:avLst/>
          </a:prstGeom>
          <a:noFill/>
          <a:ln w="0">
            <a:noFill/>
          </a:ln>
        </p:spPr>
        <p:txBody>
          <a:bodyPr anchor="t">
            <a:normAutofit fontScale="99000"/>
          </a:bodyPr>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size of the infarct zone depends on the location and size of the narrowing of the coronary arteries and the development of collaterals:</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nterior left descending artery -&gt; anterior wall, septum and apex</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eft circumflex artery -&gt; lateral and inferioposterior wall</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in trunk of the left coronary artery -&gt; anterior extended infarction (anterior wall, septum, apex and lateral wall)</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ight coronary artery -&gt; inferoposterior wall, posterior septum wall, and posteromedial papillary muscle</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infarct zone can be:</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Non-transmural (nonSTEMI, nonQ infarctions)</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ransmural (STEM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consequences</a:t>
            </a:r>
            <a:endParaRPr b="0" lang="en-US" sz="3200" spc="-1" strike="noStrike">
              <a:solidFill>
                <a:srgbClr val="000000"/>
              </a:solidFill>
              <a:latin typeface="Calibri"/>
            </a:endParaRPr>
          </a:p>
        </p:txBody>
      </p:sp>
      <p:sp>
        <p:nvSpPr>
          <p:cNvPr id="99" name=""/>
          <p:cNvSpPr txBox="1"/>
          <p:nvPr/>
        </p:nvSpPr>
        <p:spPr>
          <a:xfrm>
            <a:off x="4191120" y="1600200"/>
            <a:ext cx="449568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bstruction lasting longer than 20 minutes leads to the formation of 3 zon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zone of necros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zone of ischemia 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uxury perfusion" zone</a:t>
            </a:r>
            <a:endParaRPr b="0" lang="en-US" sz="2200" spc="-1" strike="noStrike">
              <a:solidFill>
                <a:srgbClr val="000000"/>
              </a:solidFill>
              <a:latin typeface="Calibri"/>
            </a:endParaRPr>
          </a:p>
        </p:txBody>
      </p:sp>
      <p:pic>
        <p:nvPicPr>
          <p:cNvPr id="100" name="Picture 2" descr=""/>
          <p:cNvPicPr/>
          <p:nvPr/>
        </p:nvPicPr>
        <p:blipFill>
          <a:blip r:embed="rId1"/>
          <a:stretch/>
        </p:blipFill>
        <p:spPr>
          <a:xfrm>
            <a:off x="341280" y="2133720"/>
            <a:ext cx="340200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orphological (structural) changes in myocardial infarction</a:t>
            </a:r>
            <a:endParaRPr b="0" lang="en-US" sz="32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6-12h without major changes (cyanosis with decrease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emperat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8-24h ash to gray-brown colo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2-4. day visible necrosis: yellow-brown color in the center and hyperemia around i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4-10. day center is soft, fatty degenerate with hemorrhage in the necrotic zon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0-14. day weak scar tissue with the beginning of revasculariza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6th week complete sc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linical manifestations of myocardial infarction</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Chest pain lasting more than 20 minutes</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ECG changes (ST elevation, later significant Q)</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ositive biohumoral myocyte necrosis syndrome:</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transfer of intracellular myocyte enzymes into systemic circulation: CK-MB, LDH 1 and 2, AST, ALT</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transfer of intracellular proteins of myocytes into the systemic circulation: Troponin T and I, myoglobi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omplications of myocardial infarction</a:t>
            </a:r>
            <a:endParaRPr b="0" lang="en-US" sz="3200" spc="-1" strike="noStrike">
              <a:solidFill>
                <a:srgbClr val="000000"/>
              </a:solidFill>
              <a:latin typeface="Calibri"/>
            </a:endParaRPr>
          </a:p>
        </p:txBody>
      </p:sp>
      <p:sp>
        <p:nvSpPr>
          <p:cNvPr id="106"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rhythmia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upture of cardiac structures (free wall, septum or papillary musc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ormation of ventricular aneurys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ulmonary and systemic embolis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pistenocardiac pericarditis (2-3 days after infar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 Dressler (after 1-6 weeks) autoimmune disease: polyserositis (pericarditis, pleuritis, pneumonitis), arthriti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Heart failure</a:t>
            </a:r>
            <a:endParaRPr b="0" lang="en-US" sz="3200" spc="-1" strike="noStrike">
              <a:solidFill>
                <a:srgbClr val="000000"/>
              </a:solidFill>
              <a:latin typeface="Calibri"/>
            </a:endParaRPr>
          </a:p>
        </p:txBody>
      </p:sp>
      <p:sp>
        <p:nvSpPr>
          <p:cNvPr id="108" name=""/>
          <p:cNvSpPr txBox="1"/>
          <p:nvPr/>
        </p:nvSpPr>
        <p:spPr>
          <a:xfrm>
            <a:off x="457200" y="990360"/>
            <a:ext cx="8229600" cy="513540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eart failure is a clinical syndrome in which the heart is unable to pump sufficient amounts of blood and thus satisfy the nutritional and oxygenation needs of the body, first during exertion and then at rest, all provided that the venous flow is normal.</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Etiolog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Disturbed contractile function of the myocardium</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heart rat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educed chamber filling</a:t>
            </a:r>
            <a:endParaRPr b="0" lang="en-US" sz="2100" spc="-1" strike="noStrike">
              <a:solidFill>
                <a:srgbClr val="000000"/>
              </a:solidFill>
              <a:latin typeface="Calibri"/>
            </a:endParaRPr>
          </a:p>
        </p:txBody>
      </p:sp>
      <p:pic>
        <p:nvPicPr>
          <p:cNvPr id="109" name="Picture 3" descr="Heart Failure - familydoctor.org"/>
          <p:cNvPicPr/>
          <p:nvPr/>
        </p:nvPicPr>
        <p:blipFill>
          <a:blip r:embed="rId1"/>
          <a:stretch/>
        </p:blipFill>
        <p:spPr>
          <a:xfrm>
            <a:off x="4191120" y="4267080"/>
            <a:ext cx="4470120" cy="241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Heart function</a:t>
            </a:r>
            <a:endParaRPr b="0" lang="en-US" sz="3600" spc="-1" strike="noStrike">
              <a:solidFill>
                <a:srgbClr val="000000"/>
              </a:solidFill>
              <a:latin typeface="Calibri"/>
            </a:endParaRPr>
          </a:p>
        </p:txBody>
      </p:sp>
      <p:sp>
        <p:nvSpPr>
          <p:cNvPr id="48"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Palatino Linotype"/>
              </a:rPr>
              <a:t>Electromagnetic phenomena </a:t>
            </a:r>
            <a:r>
              <a:rPr b="1" lang="en-US" sz="2200" spc="-1" strike="noStrike" u="sng">
                <a:solidFill>
                  <a:srgbClr val="000000"/>
                </a:solidFill>
                <a:uFillTx/>
                <a:latin typeface="Palatino Linotype"/>
              </a:rPr>
              <a:t>are first and initiate </a:t>
            </a:r>
            <a:r>
              <a:rPr b="1" lang="sr-Latn-RS" sz="2200" spc="-1" strike="noStrike" u="sng">
                <a:solidFill>
                  <a:srgbClr val="000000"/>
                </a:solidFill>
                <a:uFillTx/>
                <a:latin typeface="Palatino Linotype"/>
              </a:rPr>
              <a:t>mechanical </a:t>
            </a:r>
            <a:r>
              <a:rPr b="1" lang="en-US" sz="2200" spc="-1" strike="noStrike" u="sng">
                <a:solidFill>
                  <a:srgbClr val="000000"/>
                </a:solidFill>
                <a:uFillTx/>
                <a:latin typeface="Palatino Linotype"/>
              </a:rPr>
              <a:t>reply</a:t>
            </a:r>
            <a:r>
              <a:rPr b="1" lang="sr-Latn-RS" sz="2200" spc="-1" strike="noStrike" u="sng">
                <a:solidFill>
                  <a:srgbClr val="000000"/>
                </a:solidFill>
                <a:uFillTx/>
                <a:latin typeface="Palatino Linotype"/>
              </a:rPr>
              <a:t>: automatic, rhythmic, </a:t>
            </a:r>
            <a:r>
              <a:rPr b="1" lang="en-US" sz="2200" spc="-1" strike="noStrike" u="sng">
                <a:solidFill>
                  <a:srgbClr val="000000"/>
                </a:solidFill>
                <a:uFillTx/>
                <a:latin typeface="Palatino Linotype"/>
              </a:rPr>
              <a:t>excitable,</a:t>
            </a:r>
            <a:r>
              <a:rPr b="1" lang="sr-Latn-RS" sz="2200" spc="-1" strike="noStrike" u="sng">
                <a:solidFill>
                  <a:srgbClr val="000000"/>
                </a:solidFill>
                <a:uFillTx/>
                <a:latin typeface="Palatino Linotype"/>
              </a:rPr>
              <a:t> and conductiv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Palatino Linotype"/>
              </a:rPr>
              <a:t>Mechanism effects of contraction of </a:t>
            </a:r>
            <a:r>
              <a:rPr b="1" lang="en-US" sz="2200" spc="-1" strike="noStrike" u="sng">
                <a:solidFill>
                  <a:srgbClr val="000000"/>
                </a:solidFill>
                <a:uFillTx/>
                <a:latin typeface="Palatino Linotype"/>
              </a:rPr>
              <a:t>the </a:t>
            </a:r>
            <a:r>
              <a:rPr b="1" lang="sr-Latn-RS" sz="2200" spc="-1" strike="noStrike" u="sng">
                <a:solidFill>
                  <a:srgbClr val="000000"/>
                </a:solidFill>
                <a:uFillTx/>
                <a:latin typeface="Palatino Linotype"/>
              </a:rPr>
              <a:t>myocardium: preload</a:t>
            </a:r>
            <a:r>
              <a:rPr b="1" lang="en-US" sz="2200" spc="-1" strike="noStrike" u="sng">
                <a:solidFill>
                  <a:srgbClr val="000000"/>
                </a:solidFill>
                <a:uFillTx/>
                <a:latin typeface="Palatino Linotype"/>
              </a:rPr>
              <a:t>, </a:t>
            </a:r>
            <a:r>
              <a:rPr b="1" lang="sr-Latn-RS" sz="2200" spc="-1" strike="noStrike" u="sng">
                <a:solidFill>
                  <a:srgbClr val="000000"/>
                </a:solidFill>
                <a:uFillTx/>
                <a:latin typeface="Palatino Linotype"/>
              </a:rPr>
              <a:t>afterload</a:t>
            </a:r>
            <a:r>
              <a:rPr b="1" lang="en-US" sz="2200" spc="-1" strike="noStrike" u="sng">
                <a:solidFill>
                  <a:srgbClr val="000000"/>
                </a:solidFill>
                <a:uFillTx/>
                <a:latin typeface="Palatino Linotype"/>
              </a:rPr>
              <a:t>, contractility, extensibility.</a:t>
            </a:r>
            <a:endParaRPr b="0" lang="en-US" sz="2200" spc="-1" strike="noStrike">
              <a:solidFill>
                <a:srgbClr val="000000"/>
              </a:solidFill>
              <a:latin typeface="Calibri"/>
            </a:endParaRPr>
          </a:p>
        </p:txBody>
      </p:sp>
      <p:pic>
        <p:nvPicPr>
          <p:cNvPr id="49" name="Picture 3" descr="Medicinsko istraživanje potvrdilo da Srbi imaju veliko srce - Njuz.net"/>
          <p:cNvPicPr/>
          <p:nvPr/>
        </p:nvPicPr>
        <p:blipFill>
          <a:blip r:embed="rId1"/>
          <a:stretch/>
        </p:blipFill>
        <p:spPr>
          <a:xfrm>
            <a:off x="4876920" y="4002120"/>
            <a:ext cx="3813120" cy="2855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sturbed contractile function of the myocardium</a:t>
            </a:r>
            <a:endParaRPr b="0" lang="en-US" sz="32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chemi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enosis in the diameter of 85% = stenosis in the area of 96% prevents flow even at res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chemic myocardium: normal morphology but poor function (segmental contractile burst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zed myocardium" occurs after AMI, the morphology is good, but the phosphates are used up, so there are not enough metabolites and the myocardium contracts poorly in the following week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ozen (hibernating) myocardium" occurs in IBS, the artery for that part of the muscle is narrowed, there is not enough oxygen, it contracts less because it stores energy to preserve the morpholog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sturbed contractile function of the myocardium</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ectious causes: bacteria, viruses (Coxacki B3 and V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xic causes: alcohol, cytostatics, CCl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tabolic nutritional causes: anemia, hyper and hypothyroidism, beriber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iltrative diseases: sarcoidosis, amyloidosis, hemochromatos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llagenoses: SLE, polyarterit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ther: neuromuscular diseases, trauma (mechanical, electrical, radiation), postpartum, idiopath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Increased heart work</a:t>
            </a:r>
            <a:endParaRPr b="0" lang="en-US" sz="3200" spc="-1" strike="noStrike">
              <a:solidFill>
                <a:srgbClr val="000000"/>
              </a:solidFill>
              <a:latin typeface="Calibri"/>
            </a:endParaRPr>
          </a:p>
        </p:txBody>
      </p:sp>
      <p:sp>
        <p:nvSpPr>
          <p:cNvPr id="115"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stroke volum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onditions with increased cardiac output: anemia, hyperthyroidism</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Valvular regurgitation and shunt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evere bradycardia</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resistance to blood fl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ystemic and pulmonary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ortic and pulmonary stenosi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Reduced chamber filling</a:t>
            </a:r>
            <a:endParaRPr b="0" lang="en-US" sz="3200" spc="-1" strike="noStrike">
              <a:solidFill>
                <a:srgbClr val="000000"/>
              </a:solidFill>
              <a:latin typeface="Calibri"/>
            </a:endParaRPr>
          </a:p>
        </p:txBody>
      </p:sp>
      <p:sp>
        <p:nvSpPr>
          <p:cNvPr id="117"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itral and tricuspid stenos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ecreased elasticity of the ventricles (hypertrophy, ischemia, infiltra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nstrictive pericardit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strictive cardiomyopath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DIVISION OF HEART FAILURE</a:t>
            </a:r>
            <a:endParaRPr b="0" lang="en-US" sz="3200" spc="-1" strike="noStrike">
              <a:solidFill>
                <a:srgbClr val="000000"/>
              </a:solidFill>
              <a:latin typeface="Calibri"/>
            </a:endParaRPr>
          </a:p>
        </p:txBody>
      </p:sp>
      <p:sp>
        <p:nvSpPr>
          <p:cNvPr id="119"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ccording to the fl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cut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hronic</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ccording to the part of the heart that is affected:</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Left heart failur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ight heart failur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Global heart failure</a:t>
            </a:r>
            <a:endParaRPr b="0" lang="en-US" sz="2100" spc="-1" strike="noStrike">
              <a:solidFill>
                <a:srgbClr val="000000"/>
              </a:solidFill>
              <a:latin typeface="Calibri"/>
            </a:endParaRPr>
          </a:p>
        </p:txBody>
      </p:sp>
      <p:pic>
        <p:nvPicPr>
          <p:cNvPr id="120" name="Picture 3" descr="Diagnosing Congestive Heart Failure | Dr. Raghu"/>
          <p:cNvPicPr/>
          <p:nvPr/>
        </p:nvPicPr>
        <p:blipFill>
          <a:blip r:embed="rId1"/>
          <a:stretch/>
        </p:blipFill>
        <p:spPr>
          <a:xfrm>
            <a:off x="5181480" y="3962520"/>
            <a:ext cx="3962520" cy="28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DIVISION OF HEART FAILURE</a:t>
            </a:r>
            <a:endParaRPr b="0" lang="en-US" sz="3200" spc="-1" strike="noStrike">
              <a:solidFill>
                <a:srgbClr val="000000"/>
              </a:solidFill>
              <a:latin typeface="Calibri"/>
            </a:endParaRPr>
          </a:p>
        </p:txBody>
      </p:sp>
      <p:sp>
        <p:nvSpPr>
          <p:cNvPr id="122"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cording to the size of the minute volum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failure with low cardiac output (heart dise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failure with normal or increased heart volume (non-cardiac diseas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cording to the phase of the cardiac cyc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stolic 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iastolic 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cording to blood flo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trograde (congestion symptom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nterograde (low cardiac output symptom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RIGHT HEART FAILURE</a:t>
            </a:r>
            <a:endParaRPr b="0" lang="en-US" sz="3200" spc="-1" strike="noStrike">
              <a:solidFill>
                <a:srgbClr val="000000"/>
              </a:solidFill>
              <a:latin typeface="Calibri"/>
            </a:endParaRPr>
          </a:p>
        </p:txBody>
      </p:sp>
      <p:sp>
        <p:nvSpPr>
          <p:cNvPr id="124"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NTEROGRADE decrease in cardiac outpu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d filling of the left hear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d cardiac output of the left heart (fatigue, weakness, dizziness, loss of consciousnes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TROGRADE pressure increase in the systemic venous circul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Venous (gate) conges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patomegaly (develops to cardiac cirrhos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scit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esty gravitational edema of lower legs an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crum</a:t>
            </a:r>
            <a:endParaRPr b="0" lang="en-US" sz="2000" spc="-1" strike="noStrike">
              <a:solidFill>
                <a:srgbClr val="000000"/>
              </a:solidFill>
              <a:latin typeface="Calibri"/>
            </a:endParaRPr>
          </a:p>
        </p:txBody>
      </p:sp>
      <p:pic>
        <p:nvPicPr>
          <p:cNvPr id="125" name="Picture 3" descr="Congestive Heart Failure: Symptoms, Stages &amp; Treatment"/>
          <p:cNvPicPr/>
          <p:nvPr/>
        </p:nvPicPr>
        <p:blipFill>
          <a:blip r:embed="rId1"/>
          <a:stretch/>
        </p:blipFill>
        <p:spPr>
          <a:xfrm>
            <a:off x="6629400" y="3657600"/>
            <a:ext cx="2514600" cy="3048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LEFT HEART FAILURE</a:t>
            </a:r>
            <a:endParaRPr b="0" lang="en-US" sz="3200" spc="-1" strike="noStrike">
              <a:solidFill>
                <a:srgbClr val="000000"/>
              </a:solidFill>
              <a:latin typeface="Calibri"/>
            </a:endParaRPr>
          </a:p>
        </p:txBody>
      </p:sp>
      <p:sp>
        <p:nvSpPr>
          <p:cNvPr id="12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ANTEROGRADE decrease in cardiac outpu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Reduced exertion toleranc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Fatigu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Malais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Dizziness, loss of consciousness (syncop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RETROGRADE increase in pressure in the pulmonary circul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paroxysmal nocturnal dyspne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orthopne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pulmonary edema</a:t>
            </a:r>
            <a:endParaRPr b="0" lang="en-US" sz="2000" spc="-1" strike="noStrike">
              <a:solidFill>
                <a:srgbClr val="000000"/>
              </a:solidFill>
              <a:latin typeface="Calibri"/>
            </a:endParaRPr>
          </a:p>
        </p:txBody>
      </p:sp>
      <p:pic>
        <p:nvPicPr>
          <p:cNvPr id="128" name="Picture 4" descr="Heart failure - Symptoms and causes - Mayo Clinic"/>
          <p:cNvPicPr/>
          <p:nvPr/>
        </p:nvPicPr>
        <p:blipFill>
          <a:blip r:embed="rId1"/>
          <a:stretch/>
        </p:blipFill>
        <p:spPr>
          <a:xfrm>
            <a:off x="5334120" y="3776760"/>
            <a:ext cx="3392280" cy="3081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ubcellular chang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mpensatory mechanisms (cardiac and extracardiac)</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 Frank-Starling la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2. Hypertrophy</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Neurohumoral mechanism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4. Adaptation to hypoxi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5. Adaptation of tissue to anaerobic metaboli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ubcellular chang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basic problem is the transfer of chemical to mechanical energy inside the myocyt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iochemical chang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mage to the Na/K pump</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hanges in IP3 and calcium concentration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 in cAM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MINUTE VOLUME</a:t>
            </a:r>
            <a:endParaRPr b="0" lang="en-US" sz="3600" spc="-1" strike="noStrike">
              <a:solidFill>
                <a:srgbClr val="000000"/>
              </a:solidFill>
              <a:latin typeface="Calibri"/>
            </a:endParaRPr>
          </a:p>
        </p:txBody>
      </p:sp>
      <p:sp>
        <p:nvSpPr>
          <p:cNvPr id="51"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A = MV x 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V = f x UV</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A = f x UV x R</a:t>
            </a:r>
            <a:endParaRPr b="0" lang="en-US" sz="2400" spc="-1" strike="noStrike">
              <a:solidFill>
                <a:srgbClr val="000000"/>
              </a:solidFill>
              <a:latin typeface="Calibri"/>
            </a:endParaRPr>
          </a:p>
        </p:txBody>
      </p:sp>
      <p:pic>
        <p:nvPicPr>
          <p:cNvPr id="52" name="Picture 3" descr="Hipertenzija – povišen krvni pritisak – Učimo zajedno"/>
          <p:cNvPicPr/>
          <p:nvPr/>
        </p:nvPicPr>
        <p:blipFill>
          <a:blip r:embed="rId1"/>
          <a:stretch/>
        </p:blipFill>
        <p:spPr>
          <a:xfrm>
            <a:off x="4876920" y="1828800"/>
            <a:ext cx="3657600" cy="2738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mpensatory mechanisms (cardiac and extracardia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 Frank-Starling law</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 Hypertrophy (cocentric and eccentric) occurs due to a reduced ratio of ATD/ADP and elevated noradrenaline ("myogenic dilatation"). Myofibrils permanently exposed to increased stress increase the need for oxygen, which does not follow the growth of blood vessels, resulting in loss of myocytes and reduced contractility ("tonogenic" dil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Neurohumoral mechanism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tivation of the sympathetic nervous system: increase in frequency, contractility and peripheral resistance (centralization of blood flow), activation of the RAA system, induction of myocyte apoptosis, reduction of adrenergic receptors on the heart</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tivation of the RAA system (systemic and tissue): systemic vasoconstriction, retention of sodium and water, activation of the sympathetic nervous system, increase in ADH, hypertrophy of cardiac muscle cel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Neurohumoral mechanism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trial natriuretic factor (ANF): the stimulus for its secretion is stretching of the atrium, and it leads to vasodilation, increased diuresis and a decrease in the activity of the RAA system. A biochemical parameter that can quantify heart failur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ther: prostaglandins, dopamine, kallikrei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4. Adaptation to hypoxia: increased extraction</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f oxygen due to the increase of 2,3-DPG in erythrocytes which</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affinity of Hgb for oxygen decreases, and the dissociation curve shifts to the right.</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5. Adaptation of tissue to anaerobic metaboli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hanges in other organs during heart failure</a:t>
            </a:r>
            <a:endParaRPr b="0" lang="en-US" sz="32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Lungs: stagnation of blood flow in the bases of the lungs and redirection of blood flow to the upper lung fields, and when the pressure in the pulmonary capillaries (norm. is 7-12 mmHg) becomes oncotic (25-30 mmHg), fluid transudation occur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Kidney: in moderately severe heart failure, vasoconstriction of the efferent arteriole of the glomerulus occurs and thus glomerular filtration is preserved. In severe heart failure, both the afferent and efferent arterioles of the glomeruli are constricted, which reduces glomerular filtra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echanism of progression of heart failure</a:t>
            </a:r>
            <a:endParaRPr b="0" lang="en-US" sz="3200" spc="-1" strike="noStrike">
              <a:solidFill>
                <a:srgbClr val="000000"/>
              </a:solidFill>
              <a:latin typeface="Calibri"/>
            </a:endParaRPr>
          </a:p>
        </p:txBody>
      </p:sp>
      <p:sp>
        <p:nvSpPr>
          <p:cNvPr id="144"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urther damage due to the underlying pathophysiological proces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rogressive reduction of the contractile ability of the myocardium due to long-term increased wall stress and hypertrophy of the heart wal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amage due to the long-term effect of neurohumoral compensation mechanisms (vasoconstriction dependent on the RAA system and independent of i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ischemia due to hypertrophy - REMODE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tages of left ventricular remodeling</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damage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modeling chambers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rreversible chang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tages of left ventricular remodeling</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modeling of the ventricles (the left ventricle, which is ellipsoid in shape, takes the shape of a bal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Under the influence of angiotensin II and catecholamines, cellular changes occur near the zone of action of the etiological factor, consisting of hypertrophy, production of abnormal contractile proteins, and deposition of collagen between myocyt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is results in dilation and impaired ventricular contraction geomet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MYOCARDIOPATHIES (CARDIOMYOPATHIES)</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ardiomyopathies are diseases of the myocardium associated with its dysfunct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Divi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1. Dilated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2. Hypertrophic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3. Restrictive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4. Arrhythmogenic right ventricular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5. Unclassified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6. Specific cardiomyopathies: ischemic, hypertensive, valvular, inflammatory, infectious, metabolic, peripartum</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latative cardiomyopathy </a:t>
            </a:r>
            <a:endParaRPr b="0" lang="en-US" sz="3200" spc="-1" strike="noStrike">
              <a:solidFill>
                <a:srgbClr val="000000"/>
              </a:solidFill>
              <a:latin typeface="Calibri"/>
            </a:endParaRPr>
          </a:p>
        </p:txBody>
      </p:sp>
      <p:sp>
        <p:nvSpPr>
          <p:cNvPr id="15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ilated cardiomyopathy is a form of myocardiopathy characterized by dilation of the heart chambers and left ventricular systolic dysfunc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diopathi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n autoimmune reaction that persists after a viral infec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amilial (genetic)</a:t>
            </a:r>
            <a:endParaRPr b="0" lang="en-US" sz="2000" spc="-1" strike="noStrike">
              <a:solidFill>
                <a:srgbClr val="000000"/>
              </a:solidFill>
              <a:latin typeface="Calibri"/>
            </a:endParaRPr>
          </a:p>
        </p:txBody>
      </p:sp>
      <p:pic>
        <p:nvPicPr>
          <p:cNvPr id="153" name="Picture 3" descr="Cardiomyopathy - Types | NHLBI, NIH"/>
          <p:cNvPicPr/>
          <p:nvPr/>
        </p:nvPicPr>
        <p:blipFill>
          <a:blip r:embed="rId1"/>
          <a:stretch/>
        </p:blipFill>
        <p:spPr>
          <a:xfrm>
            <a:off x="4572000" y="3809880"/>
            <a:ext cx="42750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DISORDERS OF CARDIOVASCULAR SYSTEM</a:t>
            </a:r>
            <a:endParaRPr b="0" lang="en-US" sz="2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ter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Vein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isorders of lymphatic vessel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terial hypertens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terial hypotens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schemic heart dise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ericard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ndocard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nifestations of heart disea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latative cardiomyopathy </a:t>
            </a:r>
            <a:endParaRPr b="0" lang="en-US" sz="3200" spc="-1" strike="noStrike">
              <a:solidFill>
                <a:srgbClr val="000000"/>
              </a:solidFill>
              <a:latin typeface="Calibri"/>
            </a:endParaRPr>
          </a:p>
        </p:txBody>
      </p:sp>
      <p:sp>
        <p:nvSpPr>
          <p:cNvPr id="155"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log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ll 4 heart chambers are dilated</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ertrophic myocyt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terstitial fibrosis and infiltration by T lymphocyt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valves are normal, but the dilatation of the valvular rings leads to their relative insufficienc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equent thrombi in the apical part of the left ventricl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physiolog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iffuse damage to the contractile elements that causes dilatation, an increase in end-diastolic pressure and a decrease in cardiac outpu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tages of dilated cardiomyopathy</a:t>
            </a:r>
            <a:endParaRPr b="0" lang="en-US" sz="3200" spc="-1" strike="noStrike">
              <a:solidFill>
                <a:srgbClr val="000000"/>
              </a:solidFill>
              <a:latin typeface="Calibri"/>
            </a:endParaRPr>
          </a:p>
        </p:txBody>
      </p:sp>
      <p:sp>
        <p:nvSpPr>
          <p:cNvPr id="157"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ertrophy and compensated dysfunction: increase in end-diastolic pressure, tachycardi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sufficient hypertrophy of the left ventricular wall: increased tension of the left ventricular wall, increase in oxygen demand, decrease in systolic func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ompensation: further worsening of systolic function -&gt; activation of compensatory mechanisms (RAA, catecholamines -&gt; peripheral vasoconstric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erminal phase: mitral regurgitation (decrease in cardiac output and additional volume loading of the left ventricle -&gt; reduction of beta receptors on the hear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Clinical picture of dilated cardiomyopathy</a:t>
            </a:r>
            <a:endParaRPr b="0" lang="en-US" sz="28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ymptoms and signs of pulmonary congestion (dyspnea on exertion, paroxysmal nocturnal dyspnea, dyspnea at rest, orthopnea) and systemic venous congestion (hepatomegaly, swollen neck veins, ascites, edem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adequate anterograde perfusion: tachycardia, syncope, malaise</a:t>
            </a:r>
            <a:endParaRPr b="0" lang="en-US" sz="2000" spc="-1" strike="noStrike">
              <a:solidFill>
                <a:srgbClr val="000000"/>
              </a:solidFill>
              <a:latin typeface="Calibri"/>
            </a:endParaRPr>
          </a:p>
        </p:txBody>
      </p:sp>
      <p:pic>
        <p:nvPicPr>
          <p:cNvPr id="160" name="Picture 5" descr="Dilated cardiomyopathy: MedlinePlus Medical Encyclopedia"/>
          <p:cNvPicPr/>
          <p:nvPr/>
        </p:nvPicPr>
        <p:blipFill>
          <a:blip r:embed="rId1"/>
          <a:stretch/>
        </p:blipFill>
        <p:spPr>
          <a:xfrm>
            <a:off x="3429000" y="33526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ertrophic cardiomyopathy is a primary disease of the heart muscle characterized by hypertrophy of the left and/or right ventricle in the absence of other diseases that can lead to i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eneticall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amilial (autosomal dominant) - tropomyosin beta heavy chain def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poradic (autosomal recessive) - alpha tropomyosin or troponin T defec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trauterine defects: increased intracellular calcium, abnormal response to noradrenali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4" name=""/>
          <p:cNvSpPr txBox="1"/>
          <p:nvPr/>
        </p:nvSpPr>
        <p:spPr>
          <a:xfrm>
            <a:off x="457200" y="914040"/>
            <a:ext cx="8229600" cy="5211720"/>
          </a:xfrm>
          <a:prstGeom prst="rect">
            <a:avLst/>
          </a:prstGeom>
          <a:noFill/>
          <a:ln w="0">
            <a:noFill/>
          </a:ln>
        </p:spPr>
        <p:txBody>
          <a:bodyPr anchor="t">
            <a:normAutofit/>
          </a:bodyPr>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athology:</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Myofibril dysgenesis - bizarre formations of myofibrils (vortices)</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Concentric (symmetric) and eccentric (asymmetric) hypertrophy followed by fibrosis</a:t>
            </a:r>
            <a:endParaRPr b="0" lang="en-US" sz="1900" spc="-1" strike="noStrike">
              <a:solidFill>
                <a:srgbClr val="000000"/>
              </a:solidFill>
              <a:latin typeface="Calibri"/>
            </a:endParaRPr>
          </a:p>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Division:</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Non-obstructive</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Obstructive: apex, body or outflow segment (subaortic obstruction)</a:t>
            </a:r>
            <a:endParaRPr b="0" lang="en-US" sz="1900" spc="-1" strike="noStrike">
              <a:solidFill>
                <a:srgbClr val="000000"/>
              </a:solidFill>
              <a:latin typeface="Calibri"/>
            </a:endParaRPr>
          </a:p>
        </p:txBody>
      </p:sp>
      <p:pic>
        <p:nvPicPr>
          <p:cNvPr id="165" name="Picture 3" descr="Cardiomyopathy - Symptoms and causes - Mayo Clinic"/>
          <p:cNvPicPr/>
          <p:nvPr/>
        </p:nvPicPr>
        <p:blipFill>
          <a:blip r:embed="rId1"/>
          <a:stretch/>
        </p:blipFill>
        <p:spPr>
          <a:xfrm>
            <a:off x="5410080" y="4302000"/>
            <a:ext cx="3554640" cy="2556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fontScale="99000"/>
          </a:bodyPr>
          <a:p>
            <a:pPr marL="452520" indent="-452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Pathophysiology:</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Fast and strong contraction (increased ejection fraction) with the appearance of dynamic obstruction - gradient in subaortic and hypertrophy of the middle part of the left ventricle; the occurrence of contact between the anterior mitral cusp and the septum (systolic anterior motion - SAM) and the formation of a fibrous plaque at that site of the septum</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Diastolic dysfunction of the right and left ventricle occurs in two forms</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 disturbed relaxation (reduced flow in the fast filling phase, increased atrial systole)</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 impaired compliance (increased flow in the fast filling phase, reduced atrial systol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9"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Pathophysiology:</a:t>
            </a:r>
            <a:endParaRPr b="0" lang="en-US" sz="2100" spc="-1" strike="noStrike">
              <a:solidFill>
                <a:srgbClr val="000000"/>
              </a:solidFill>
              <a:latin typeface="Calibri"/>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3. Mitral regurgitation (in the second half of systole)</a:t>
            </a:r>
            <a:endParaRPr b="0" lang="en-US" sz="2100" spc="-1" strike="noStrike">
              <a:solidFill>
                <a:srgbClr val="000000"/>
              </a:solidFill>
              <a:latin typeface="Calibri"/>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4. Systolic dysfunction: if the pressure gradient lasts longer during left ventricular systole, there is an increase in oxygen consumption, ischemia, necrosis and fibrosis of myocyt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Restrictive cardiomyopathy</a:t>
            </a:r>
            <a:endParaRPr b="0" lang="en-US" sz="2800" spc="-1" strike="noStrike">
              <a:solidFill>
                <a:srgbClr val="000000"/>
              </a:solidFill>
              <a:latin typeface="Calibri"/>
            </a:endParaRPr>
          </a:p>
        </p:txBody>
      </p:sp>
      <p:sp>
        <p:nvSpPr>
          <p:cNvPr id="171"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estrictive cardiomyopathy is a primary disease of the endocardium and/or myocardium, the main characteristic of which is impaired diastolic function of the left ventricle (impaired compliance).</a:t>
            </a:r>
            <a:endParaRPr b="0" lang="en-US" sz="2100" spc="-1" strike="noStrike">
              <a:solidFill>
                <a:srgbClr val="000000"/>
              </a:solidFill>
              <a:latin typeface="Calibri"/>
            </a:endParaRPr>
          </a:p>
        </p:txBody>
      </p:sp>
      <p:pic>
        <p:nvPicPr>
          <p:cNvPr id="172" name="Picture 4" descr="Restrictive cardiomyopathy hi-res stock photography and images - Alamy"/>
          <p:cNvPicPr/>
          <p:nvPr/>
        </p:nvPicPr>
        <p:blipFill>
          <a:blip r:embed="rId1"/>
          <a:stretch/>
        </p:blipFill>
        <p:spPr>
          <a:xfrm>
            <a:off x="2438280" y="2819520"/>
            <a:ext cx="4953240" cy="3504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Etiology of restrictive cardiomyopathy</a:t>
            </a:r>
            <a:endParaRPr b="0" lang="en-US" sz="2800" spc="-1" strike="noStrike">
              <a:solidFill>
                <a:srgbClr val="000000"/>
              </a:solidFill>
              <a:latin typeface="Calibri"/>
            </a:endParaRPr>
          </a:p>
        </p:txBody>
      </p:sp>
      <p:sp>
        <p:nvSpPr>
          <p:cNvPr id="174"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Idiopathic</a:t>
            </a:r>
            <a:endParaRPr b="0" lang="en-US" sz="1900" spc="-1" strike="noStrike">
              <a:solidFill>
                <a:srgbClr val="000000"/>
              </a:solidFill>
              <a:latin typeface="Calibri"/>
            </a:endParaRPr>
          </a:p>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Secondary:</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Eosinophilic syndromes: hypereosinophilic syndrome, eosinophilic myocarditis, nontropical (Loffler) and tropical endomyocardial fibrosis</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 </a:t>
            </a:r>
            <a:r>
              <a:rPr b="0" lang="en-US" sz="1900" spc="-1" strike="noStrike">
                <a:solidFill>
                  <a:srgbClr val="000000"/>
                </a:solidFill>
                <a:latin typeface="Palatino Linotype"/>
              </a:rPr>
              <a:t>Interstitial</a:t>
            </a:r>
            <a:r>
              <a:rPr b="0" lang="sr-Latn-RS" sz="1900" spc="-1" strike="noStrike">
                <a:solidFill>
                  <a:srgbClr val="000000"/>
                </a:solidFill>
                <a:latin typeface="Palatino Linotype"/>
              </a:rPr>
              <a:t> infiltration: amyloidosis, sarcoidosis, tumors, irradiation, mucopolysaccharidoses</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infiltration of myocytes: hemochromatosis, lipidosis, glycogenosis type II</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other: carcinoid, scleroderma, endocardial fibroelastosi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Restrictive cardiomyopathy</a:t>
            </a:r>
            <a:endParaRPr b="0" lang="en-US" sz="2800" spc="-1" strike="noStrike">
              <a:solidFill>
                <a:srgbClr val="000000"/>
              </a:solidFill>
              <a:latin typeface="Calibri"/>
            </a:endParaRPr>
          </a:p>
        </p:txBody>
      </p:sp>
      <p:sp>
        <p:nvSpPr>
          <p:cNvPr id="176"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logy:</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iltration of the interstitium and degranulation of eosinophils -&gt; damage to the endocardium and myocardium -&gt; fibrosis</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evere fibrosis of the endocardium and subendocardial layers of the myocardium with multiple mural thrombi</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physiology:</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duced compliance leads to increased filling pressure -&gt; increased end-diastolic pressure -&gt; increased pressure in the atria and in the veins</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trograde pumping of blood into the veins during atrial systole</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d stroke volume with normal systolic fun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ISCHEMIC HEART DISEASE</a:t>
            </a:r>
            <a:endParaRPr b="0" lang="en-US" sz="3200" spc="-1" strike="noStrike">
              <a:solidFill>
                <a:srgbClr val="000000"/>
              </a:solidFill>
              <a:latin typeface="Calibri"/>
            </a:endParaRPr>
          </a:p>
        </p:txBody>
      </p:sp>
      <p:sp>
        <p:nvSpPr>
          <p:cNvPr id="5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Ischemic heart disease is a continuum consisting of coronary artery disease, myocardial ischemia</a:t>
            </a:r>
            <a:r>
              <a:rPr b="0" lang="en-US" sz="2200" spc="-1" strike="noStrike">
                <a:solidFill>
                  <a:srgbClr val="000000"/>
                </a:solidFill>
                <a:latin typeface="Palatino Linotype"/>
              </a:rPr>
              <a:t>,</a:t>
            </a:r>
            <a:r>
              <a:rPr b="0" lang="sr-Latn-RS" sz="2200" spc="-1" strike="noStrike">
                <a:solidFill>
                  <a:srgbClr val="000000"/>
                </a:solidFill>
                <a:latin typeface="Palatino Linotype"/>
              </a:rPr>
              <a:t> and myocardial infar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Manifestations of ischemic heart dise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Angina pector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Myocardial infar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Cardiac disorders (arrhythmia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Sudden death</a:t>
            </a:r>
            <a:endParaRPr b="0" lang="en-US" sz="2200" spc="-1" strike="noStrike">
              <a:solidFill>
                <a:srgbClr val="000000"/>
              </a:solidFill>
              <a:latin typeface="Calibri"/>
            </a:endParaRPr>
          </a:p>
        </p:txBody>
      </p:sp>
      <p:pic>
        <p:nvPicPr>
          <p:cNvPr id="57" name="Picture 3" descr="Ishemijska bolest srca (IBS, Koronarna bolest srca) - Svet Medicine"/>
          <p:cNvPicPr/>
          <p:nvPr/>
        </p:nvPicPr>
        <p:blipFill>
          <a:blip r:embed="rId1"/>
          <a:stretch/>
        </p:blipFill>
        <p:spPr>
          <a:xfrm>
            <a:off x="6095880" y="4114800"/>
            <a:ext cx="2878200" cy="2438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9196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Palatino Linotype"/>
              </a:rPr>
              <a:t>Arrhythmogenic right ventricular cardiomyopathy</a:t>
            </a:r>
            <a:endParaRPr b="0" lang="en-US" sz="2800" spc="-1" strike="noStrike">
              <a:solidFill>
                <a:srgbClr val="000000"/>
              </a:solidFill>
              <a:latin typeface="Calibri"/>
            </a:endParaRPr>
          </a:p>
        </p:txBody>
      </p:sp>
      <p:sp>
        <p:nvSpPr>
          <p:cNvPr id="178" name=""/>
          <p:cNvSpPr txBox="1"/>
          <p:nvPr/>
        </p:nvSpPr>
        <p:spPr>
          <a:xfrm>
            <a:off x="457200" y="914040"/>
            <a:ext cx="8229600" cy="52117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Familial (autosomal dominant disease) in which parts of the myocardium of the right ventricle are replaced by fatty and fibrous tissu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Frequent occurrence of ventricular arrhythmias and sudden death</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 special entity is dilated right ventricular cardiomyopathy in which right ventricular systolic dysfunction predominates</a:t>
            </a:r>
            <a:endParaRPr b="0" lang="en-US" sz="2100" spc="-1" strike="noStrike">
              <a:solidFill>
                <a:srgbClr val="000000"/>
              </a:solidFill>
              <a:latin typeface="Calibri"/>
            </a:endParaRPr>
          </a:p>
        </p:txBody>
      </p:sp>
      <p:pic>
        <p:nvPicPr>
          <p:cNvPr id="179" name="Picture 3" descr="Arrhythmogenic Right Ventricular Cardiomyopathy – CIDG"/>
          <p:cNvPicPr/>
          <p:nvPr/>
        </p:nvPicPr>
        <p:blipFill>
          <a:blip r:embed="rId1"/>
          <a:stretch/>
        </p:blipFill>
        <p:spPr>
          <a:xfrm>
            <a:off x="2590920" y="3495600"/>
            <a:ext cx="5029200" cy="3070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ARTERIAL HYPERTENSION</a:t>
            </a:r>
            <a:br>
              <a:rPr sz="2800"/>
            </a:br>
            <a:r>
              <a:rPr b="1" lang="en-US" sz="2800" spc="-1" strike="noStrike">
                <a:solidFill>
                  <a:srgbClr val="000000"/>
                </a:solidFill>
                <a:latin typeface="Palatino Linotype"/>
              </a:rPr>
              <a:t>(</a:t>
            </a:r>
            <a:r>
              <a:rPr b="1" i="1" lang="en-US" sz="2800" spc="-1" strike="noStrike">
                <a:solidFill>
                  <a:srgbClr val="000000"/>
                </a:solidFill>
                <a:latin typeface="Palatino Linotype"/>
              </a:rPr>
              <a:t>HYPERTENSIO ARTERIALIS</a:t>
            </a:r>
            <a:r>
              <a:rPr b="1" lang="en-US" sz="2800" spc="-1" strike="noStrike">
                <a:solidFill>
                  <a:srgbClr val="000000"/>
                </a:solidFill>
                <a:latin typeface="Palatino Linotype"/>
              </a:rPr>
              <a:t>)</a:t>
            </a:r>
            <a:endParaRPr b="0" lang="en-US" sz="28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rterial hypertension is an increase in arterial blood pressure above reference valu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 all populations: 140/90 mmH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ccording to the European Association for HTA: 135/85 mmHg (201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or specific groups of patients (populations with increased atherogenic risk): 120/70 mmHg</a:t>
            </a:r>
            <a:endParaRPr b="0" lang="en-US" sz="2000" spc="-1" strike="noStrike">
              <a:solidFill>
                <a:srgbClr val="000000"/>
              </a:solidFill>
              <a:latin typeface="Calibri"/>
            </a:endParaRPr>
          </a:p>
        </p:txBody>
      </p:sp>
      <p:pic>
        <p:nvPicPr>
          <p:cNvPr id="182" name="Picture 3" descr="Hypertension - Wikipedia"/>
          <p:cNvPicPr/>
          <p:nvPr/>
        </p:nvPicPr>
        <p:blipFill>
          <a:blip r:embed="rId1"/>
          <a:stretch/>
        </p:blipFill>
        <p:spPr>
          <a:xfrm>
            <a:off x="6400800" y="380988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Types of arterial hypertension</a:t>
            </a:r>
            <a:endParaRPr b="0" lang="en-US" sz="3200" spc="-1" strike="noStrike">
              <a:solidFill>
                <a:srgbClr val="000000"/>
              </a:solidFill>
              <a:latin typeface="Calibri"/>
            </a:endParaRPr>
          </a:p>
        </p:txBody>
      </p:sp>
      <p:sp>
        <p:nvSpPr>
          <p:cNvPr id="184"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Primary or essential arterial hypertension (95%) (Hypertensio arterialis essentiali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econdary arterial hypertension (5%) (Hypertensio arterialis sec.)</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imary or essential arterial hypertension</a:t>
            </a:r>
            <a:endParaRPr b="0" lang="en-US" sz="2800" spc="-1" strike="noStrike">
              <a:solidFill>
                <a:srgbClr val="000000"/>
              </a:solidFill>
              <a:latin typeface="Calibri"/>
            </a:endParaRPr>
          </a:p>
        </p:txBody>
      </p:sp>
      <p:sp>
        <p:nvSpPr>
          <p:cNvPr id="186"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rterial hypertension of unknown caus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egulation TA:</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TA= minute volume x peripheral resistanc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TA= (stroke volume x frequency) x (blood viscosity x diameter of peripheral blood vessels)</a:t>
            </a:r>
            <a:endParaRPr b="0" lang="en-US" sz="2100" spc="-1" strike="noStrike">
              <a:solidFill>
                <a:srgbClr val="000000"/>
              </a:solidFill>
              <a:latin typeface="Calibri"/>
            </a:endParaRPr>
          </a:p>
        </p:txBody>
      </p:sp>
      <p:pic>
        <p:nvPicPr>
          <p:cNvPr id="187" name="Picture 4" descr="Everything You Need to Know About Hypertensive Crisis"/>
          <p:cNvPicPr/>
          <p:nvPr/>
        </p:nvPicPr>
        <p:blipFill>
          <a:blip r:embed="rId1"/>
          <a:stretch/>
        </p:blipFill>
        <p:spPr>
          <a:xfrm>
            <a:off x="2286000" y="3657600"/>
            <a:ext cx="4800600" cy="2895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Etiology of  primary or essential arterial hypertension</a:t>
            </a:r>
            <a:endParaRPr b="0" lang="en-US" sz="2800" spc="-1" strike="noStrike">
              <a:solidFill>
                <a:srgbClr val="000000"/>
              </a:solidFill>
              <a:latin typeface="Calibri"/>
            </a:endParaRPr>
          </a:p>
        </p:txBody>
      </p:sp>
      <p:sp>
        <p:nvSpPr>
          <p:cNvPr id="18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Influence on any element in TA regulation</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It is caused by the interaction of genetic factors (polygenetic type of inheritance) and environmental factors</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Factors associated with essential NTA:</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eritag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ag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gender</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rac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increased salt intak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glucose intoleranc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smoking</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obesity</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alcohol consumption</a:t>
            </a:r>
            <a:endParaRPr b="0" lang="en-US" sz="1900" spc="-1" strike="noStrike">
              <a:solidFill>
                <a:srgbClr val="000000"/>
              </a:solidFill>
              <a:latin typeface="Calibri"/>
            </a:endParaRPr>
          </a:p>
        </p:txBody>
      </p:sp>
      <p:pic>
        <p:nvPicPr>
          <p:cNvPr id="190" name="Picture 3" descr="What is the link between hypertension (high blood pressure) and hearing  loss? | Faith Hearing Specialists"/>
          <p:cNvPicPr/>
          <p:nvPr/>
        </p:nvPicPr>
        <p:blipFill>
          <a:blip r:embed="rId1"/>
          <a:stretch/>
        </p:blipFill>
        <p:spPr>
          <a:xfrm>
            <a:off x="4495680" y="2971800"/>
            <a:ext cx="4648320" cy="36576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rimary or essential arterial hypertension</a:t>
            </a:r>
            <a:endParaRPr b="0" lang="en-US" sz="2800" spc="-1" strike="noStrike">
              <a:solidFill>
                <a:srgbClr val="000000"/>
              </a:solidFill>
              <a:latin typeface="Calibri"/>
            </a:endParaRPr>
          </a:p>
        </p:txBody>
      </p:sp>
      <p:sp>
        <p:nvSpPr>
          <p:cNvPr id="192"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chanism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d blood volu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adequate self-regul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d activity of the sympathetic nervous system at the level of blood vessel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odium and water retention in the kidney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umoral inhibition of Na/K pump activity in kidneys and blood vesse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types of arterial hypertension</a:t>
            </a:r>
            <a:endParaRPr b="0" lang="en-US" sz="3200" spc="-1" strike="noStrike">
              <a:solidFill>
                <a:srgbClr val="000000"/>
              </a:solidFill>
              <a:latin typeface="Calibri"/>
            </a:endParaRPr>
          </a:p>
        </p:txBody>
      </p:sp>
      <p:sp>
        <p:nvSpPr>
          <p:cNvPr id="194"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solated systolic NTA (sTA &gt;130 mmHg and dTA &lt;80 mmHg) - most common in people over 60 years old</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ystolic-diastolic TA (sTA &gt;130 mmHg and dTA &gt;80 mmHg) - most common in people over 40 years old</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solated diastolic TA (sTA &lt;130 mmHg and dTA &gt;80 mmHg) - most common in people over 40 years ol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imary arterial hypertension</a:t>
            </a:r>
            <a:endParaRPr b="0" lang="en-US" sz="3200" spc="-1" strike="noStrike">
              <a:solidFill>
                <a:srgbClr val="000000"/>
              </a:solidFill>
              <a:latin typeface="Calibri"/>
            </a:endParaRPr>
          </a:p>
        </p:txBody>
      </p:sp>
      <p:sp>
        <p:nvSpPr>
          <p:cNvPr id="19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Palatino Linotype"/>
              </a:rPr>
              <a:t>Consequences of long-term arterial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ypertrophy and hyperplasia of the muscular layer of arterioles and arteries (prolonged vasoconstriction and wall tension stres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Endothelial dysfunction in terms of predominance of pro-inflammatory substances (histamine, LT and PG) which increases the permeability of blood vessel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vasoconstrictor reactivity (in part due to increased permeabilit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imary arterial hypertension</a:t>
            </a:r>
            <a:endParaRPr b="0" lang="en-US" sz="3200" spc="-1" strike="noStrike">
              <a:solidFill>
                <a:srgbClr val="000000"/>
              </a:solidFill>
              <a:latin typeface="Calibri"/>
            </a:endParaRPr>
          </a:p>
        </p:txBody>
      </p:sp>
      <p:sp>
        <p:nvSpPr>
          <p:cNvPr id="198"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Palatino Linotype"/>
              </a:rPr>
              <a:t>Consequences on the organs due to long-term arterial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eart (myocardium): left ventricular hypertrophy, ischemia, left ventricular failure (increased workload with reduced coronary fl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eart (coronary arteries): myocardial ischemia, myocardial infarction, sudden death (accelerated atherosclerosi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Kidneys: retention of Na and water and perpetuation of HTA (due to RAA); tissue damage with a decrease in GF (decreased oxygenation); nephrosclerosis leading to renal failure (high pressure in the renal arteriol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imary arterial hypertension</a:t>
            </a:r>
            <a:endParaRPr b="0" lang="en-US" sz="3200" spc="-1" strike="noStrike">
              <a:solidFill>
                <a:srgbClr val="000000"/>
              </a:solidFill>
              <a:latin typeface="Calibri"/>
            </a:endParaRPr>
          </a:p>
        </p:txBody>
      </p:sp>
      <p:sp>
        <p:nvSpPr>
          <p:cNvPr id="20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Palatino Linotype"/>
              </a:rPr>
              <a:t>Consequences on the organs due to long-term arterial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NS: TIA, thrombosis, hemorrhages and aneurysms (decreased blood flow, oxygen supply and weakness of the blood vessel wall)</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Eyes: sclerosis of retinal blood vessels (reduced blood flow); exudations and hemorrhages (high pressure in arteriole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orta: dissecting aneurysm (wall weaknes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rteries of the lower extremities: intermittent claudication and gangrene (reduced blood flow and increased pressure in arteriol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a:t>
            </a:r>
            <a:r>
              <a:rPr b="0" lang="sr-Latn-RS" sz="3200" spc="-1" strike="noStrike">
                <a:solidFill>
                  <a:srgbClr val="000000"/>
                </a:solidFill>
                <a:latin typeface="Palatino Linotype"/>
              </a:rPr>
              <a:t>oronary artery disease</a:t>
            </a:r>
            <a:endParaRPr b="0" lang="en-US" sz="32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Coronary artery disease is a vascular disorder that leads to narrowing and obstruction of the coronary arteri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Etiology:</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Atherosclerosis, risk facto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non-variable: age, sex, race, genetic predisposition</a:t>
            </a:r>
            <a:r>
              <a:rPr b="0" lang="en-US" sz="2200" spc="-1" strike="noStrike">
                <a:solidFill>
                  <a:srgbClr val="000000"/>
                </a:solidFill>
                <a:latin typeface="Palatino Linotype"/>
              </a:rPr>
              <a:t>,</a:t>
            </a:r>
            <a:r>
              <a:rPr b="0" lang="sr-Latn-RS" sz="2200" spc="-1" strike="noStrike">
                <a:solidFill>
                  <a:srgbClr val="000000"/>
                </a:solidFill>
                <a:latin typeface="Palatino Linotype"/>
              </a:rPr>
              <a:t> and DM type 1 </a:t>
            </a:r>
            <a:r>
              <a:rPr b="0" lang="en-US" sz="2200" spc="-1" strike="noStrike">
                <a:solidFill>
                  <a:srgbClr val="000000"/>
                </a:solidFill>
                <a:latin typeface="Palatino Linotype"/>
              </a:rPr>
              <a:t>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potentially variable: HLP, HTA, DM type 2, smoking, psychosociological factors, obesity, sedentary lifestyle, alcohol consumption, etc.</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Non-atherosclerotic causes: thrombophilia, inflammatory, autoimmune processes (systemic connective tissue diseases)</a:t>
            </a:r>
            <a:r>
              <a:rPr b="0" lang="en-US" sz="2200" spc="-1" strike="noStrike">
                <a:solidFill>
                  <a:srgbClr val="000000"/>
                </a:solidFill>
                <a:latin typeface="Palatino Linotype"/>
              </a:rPr>
              <a:t>,</a:t>
            </a:r>
            <a:r>
              <a:rPr b="0" lang="sr-Latn-RS" sz="2200" spc="-1" strike="noStrike">
                <a:solidFill>
                  <a:srgbClr val="000000"/>
                </a:solidFill>
                <a:latin typeface="Palatino Linotype"/>
              </a:rPr>
              <a:t> and vasoconstri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RENAL HYPERTENSION</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Palatino Linotype"/>
              </a:rPr>
              <a:t>renoparenchymal type </a:t>
            </a:r>
            <a:r>
              <a:rPr b="0" lang="en-US" sz="1900" spc="-1" strike="noStrike">
                <a:solidFill>
                  <a:srgbClr val="000000"/>
                </a:solidFill>
                <a:latin typeface="Palatino Linotype"/>
              </a:rPr>
              <a:t>(disturbance in filtration and reabsorption of serum Na, K and Sa leads to hemodynamic changes in early HTA)</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Palatino Linotype"/>
              </a:rPr>
              <a:t>renovascular type (</a:t>
            </a:r>
            <a:r>
              <a:rPr b="0" lang="en-US" sz="1900" spc="-1" strike="noStrike">
                <a:solidFill>
                  <a:srgbClr val="000000"/>
                </a:solidFill>
                <a:latin typeface="Palatino Linotype"/>
              </a:rPr>
              <a:t>reduced blood flow and renal ischemia activates the RAA system in order to increase renal perfusion)</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renin-secreting tumors (elevated renin in the blood activates angiotensin II and aldosterone)</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Palatino Linotype"/>
              </a:rPr>
              <a:t>renal insufficiency </a:t>
            </a:r>
            <a:r>
              <a:rPr b="0" lang="en-US" sz="1900" spc="-1" strike="noStrike">
                <a:solidFill>
                  <a:srgbClr val="000000"/>
                </a:solidFill>
                <a:latin typeface="Palatino Linotype"/>
              </a:rPr>
              <a:t>(impairment in filtration and reabsorption of serum Na, K and Sa leads to hemodynamic changes in early HTA)</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rimary retention of Na (disorder in the filtration and/or reabsorption of serum sodium initiates the emergence of hemodynamic changes in early HTA)</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4" name=""/>
          <p:cNvSpPr txBox="1"/>
          <p:nvPr/>
        </p:nvSpPr>
        <p:spPr>
          <a:xfrm>
            <a:off x="457200" y="1066680"/>
            <a:ext cx="8229600" cy="5059440"/>
          </a:xfrm>
          <a:prstGeom prst="rect">
            <a:avLst/>
          </a:prstGeom>
          <a:noFill/>
          <a:ln w="0">
            <a:noFill/>
          </a:ln>
        </p:spPr>
        <p:txBody>
          <a:bodyPr anchor="t">
            <a:normAutofit fontScale="98000"/>
          </a:bodyPr>
          <a:p>
            <a:pPr marL="335880" indent="-335880">
              <a:lnSpc>
                <a:spcPct val="10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ENDOCRINE HYPERTENS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Acromegaly (GH increases peripheral vascular resistanc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othyroidism (deposits of mucopolysaccharides in the walls of KS increase peripheral vascular resistanc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erthyroidism (increase in systolic TA due to inotropic effects, and decrease in diastolic TA due to peripheral vasodilatat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ercalcemia (Sa ion directly increases vascular ton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ercorticism (glucocorticoids lead to sodium and water retent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rimary aldosteronism (mineralocorticoids lead to sodium and water retent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Congenital adrenal hyperplasia (retention of sodium and water)</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heochromocytoma (catecholamines increase peripheral vascular ton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araganglioma (chromophilic tissue tumors) (catecholamines increase peripheral vascular ton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6"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VASCULAR HYPERTENS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arctation of the aort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heroscleros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PREGNANCY INDUCED HYPERTENSION</a:t>
            </a:r>
            <a:r>
              <a:rPr b="0" lang="en-US" sz="2000" spc="-1" strike="noStrike">
                <a:solidFill>
                  <a:srgbClr val="000000"/>
                </a:solidFill>
                <a:latin typeface="Palatino Linotype"/>
              </a:rPr>
              <a:t>: association of NTA, proteinuria and edem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NEUROLOGICAL DISEAS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d intracranial pressure (NTA needed to maintain CNS perfus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quadriplegia, acute porphyria, familial dysautonomia, Sy Guillain-Bar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8"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CUTE STRESS: surgery, hypoglycemia, withdrawal cris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RUGS AND OTHER SUBSTANCES oral contraceptives, corticosteroids, sympathomimetics, antihistamines, MAO inhibitors, cocaine, drugs for the treatment of obesity</a:t>
            </a:r>
            <a:endParaRPr b="0" lang="en-US" sz="2000" spc="-1" strike="noStrike">
              <a:solidFill>
                <a:srgbClr val="000000"/>
              </a:solidFill>
              <a:latin typeface="Calibri"/>
            </a:endParaRPr>
          </a:p>
        </p:txBody>
      </p:sp>
      <p:pic>
        <p:nvPicPr>
          <p:cNvPr id="209" name="Picture 3" descr="Prevent and Manage High Blood Pressure | Dr Lal PathLabs Blog"/>
          <p:cNvPicPr/>
          <p:nvPr/>
        </p:nvPicPr>
        <p:blipFill>
          <a:blip r:embed="rId1"/>
          <a:stretch/>
        </p:blipFill>
        <p:spPr>
          <a:xfrm>
            <a:off x="2209680" y="3581280"/>
            <a:ext cx="5791320" cy="2971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Arterial hypotension</a:t>
            </a:r>
            <a:br>
              <a:rPr sz="2800"/>
            </a:br>
            <a:r>
              <a:rPr b="1" i="1" lang="en-US" sz="2800" spc="-1" strike="noStrike">
                <a:solidFill>
                  <a:srgbClr val="000000"/>
                </a:solidFill>
                <a:latin typeface="Palatino Linotype"/>
              </a:rPr>
              <a:t>HYPOTENSIO ARTERIALIS</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 condition in which arterial pressure is lower than 110/60 mmH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ical divis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hronic benign arterial hypotens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otension in other clinical entities (eg sh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rthostatic hypotens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hronic benign arterial hypotension</a:t>
            </a:r>
            <a:endParaRPr b="0" lang="en-US" sz="32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lood pressure values are in the range: 100-110/50-60 mmHg</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There are no changes in arterial blood pressure when moving to an upright posi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Orthostatic hypotension</a:t>
            </a:r>
            <a:endParaRPr b="0" lang="en-US" sz="3200" spc="-1" strike="noStrike">
              <a:solidFill>
                <a:srgbClr val="000000"/>
              </a:solidFill>
              <a:latin typeface="Calibri"/>
            </a:endParaRPr>
          </a:p>
        </p:txBody>
      </p:sp>
      <p:sp>
        <p:nvSpPr>
          <p:cNvPr id="215"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rthostatic hypotension is an isolated clinical entity in which a drop in arterial blood pressure occurs in an upright posi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elow 90/60 mmHg in absolute values and/o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y more than 20/15mmHg and/o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y 15% more than the pressure in the supine position</a:t>
            </a:r>
            <a:endParaRPr b="0" lang="en-US" sz="2000" spc="-1" strike="noStrike">
              <a:solidFill>
                <a:srgbClr val="000000"/>
              </a:solidFill>
              <a:latin typeface="Calibri"/>
            </a:endParaRPr>
          </a:p>
        </p:txBody>
      </p:sp>
      <p:pic>
        <p:nvPicPr>
          <p:cNvPr id="216" name="Picture 4" descr="Orthostatic hypotension symptoms - Stock Illustration [69473756] - PIXTA"/>
          <p:cNvPicPr/>
          <p:nvPr/>
        </p:nvPicPr>
        <p:blipFill>
          <a:blip r:embed="rId1"/>
          <a:stretch/>
        </p:blipFill>
        <p:spPr>
          <a:xfrm>
            <a:off x="6910560" y="3873600"/>
            <a:ext cx="2233440" cy="29844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hysiological aspects of changes in blood pressure during standing</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hen straightening in the ortho position, arterial pressur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aintained b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drenergic pressor reflex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assage effect of activated muscl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flex increase in heart rate and contractility</a:t>
            </a:r>
            <a:endParaRPr b="0" lang="en-US" sz="2000" spc="-1" strike="noStrike">
              <a:solidFill>
                <a:srgbClr val="000000"/>
              </a:solidFill>
              <a:latin typeface="Calibri"/>
            </a:endParaRPr>
          </a:p>
        </p:txBody>
      </p:sp>
      <p:pic>
        <p:nvPicPr>
          <p:cNvPr id="219" name="Picture 3" descr="Diagnosis and treatment of orthostatic hypotension - The Lancet Neurology"/>
          <p:cNvPicPr/>
          <p:nvPr/>
        </p:nvPicPr>
        <p:blipFill>
          <a:blip r:embed="rId1"/>
          <a:stretch/>
        </p:blipFill>
        <p:spPr>
          <a:xfrm>
            <a:off x="1752480" y="3581280"/>
            <a:ext cx="5105520" cy="32767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ophysiology</a:t>
            </a:r>
            <a:endParaRPr b="0" lang="en-US" sz="3200" spc="-1" strike="noStrike">
              <a:solidFill>
                <a:srgbClr val="000000"/>
              </a:solidFill>
              <a:latin typeface="Calibri"/>
            </a:endParaRPr>
          </a:p>
        </p:txBody>
      </p:sp>
      <p:sp>
        <p:nvSpPr>
          <p:cNvPr id="221"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Reduced circulatory volume (sympathetic hypotension)</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insufficient effective volume (bleeding, dehydration, secondary hyperaldosteronism, venous stasis)</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insufficient cardiac output (arrhythmias, heart failure, pulmonary thromboembolism)</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Inadequate vasomotor response (asympathetic hypotension) due to disorders of the vasomotor center or the autonomic nervous system:</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peripheral (damage of afferent and efferent valacans)</a:t>
            </a:r>
            <a:r>
              <a:rPr b="0" lang="en-US" sz="2100" spc="-1" strike="noStrike">
                <a:solidFill>
                  <a:srgbClr val="000000"/>
                </a:solidFill>
                <a:latin typeface="Palatino Linotype"/>
              </a:rPr>
              <a:t> </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central</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Combined sympathotonic/sympathotonic arterial hypotens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Orthostatic load leads to 4 types of reaction</a:t>
            </a:r>
            <a:endParaRPr b="0" lang="en-US" sz="32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lpha-sympathetic tonic reaction (increase in TA and increase in frequenc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eta-sympathetic tonic reaction (decrease in TA, increase in frequenc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symptotic response (drop in TA, unchanged frequenc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Vasodepressant/vasovagal (drop in TA, decrease in frequenc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logical substrate of coronary artery disease</a:t>
            </a:r>
            <a:endParaRPr b="0" lang="en-US" sz="3200" spc="-1" strike="noStrike">
              <a:solidFill>
                <a:srgbClr val="000000"/>
              </a:solidFill>
              <a:latin typeface="Calibri"/>
            </a:endParaRPr>
          </a:p>
        </p:txBody>
      </p:sp>
      <p:sp>
        <p:nvSpPr>
          <p:cNvPr id="6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ixed narrowing (eg atherosclerotic plaqu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latelet aggregation and thrombosis in coronary arteri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ronary artery embolis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vasoconstriction (spasm) of coronary arteri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creased resistance at the level of small arteries and arterioles of the myocardium (decreased myocardial perfusion induced by stres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logical substrate of coronary artery disease</a:t>
            </a:r>
            <a:endParaRPr b="0" lang="en-US" sz="3200" spc="-1" strike="noStrike">
              <a:solidFill>
                <a:srgbClr val="000000"/>
              </a:solidFill>
              <a:latin typeface="Calibri"/>
            </a:endParaRPr>
          </a:p>
        </p:txBody>
      </p:sp>
      <p:pic>
        <p:nvPicPr>
          <p:cNvPr id="63" name="Content Placeholder 3" descr="Chest Pain &amp; Discomfort - Cadence Heart Centre"/>
          <p:cNvPicPr/>
          <p:nvPr/>
        </p:nvPicPr>
        <p:blipFill>
          <a:blip r:embed="rId1"/>
          <a:stretch/>
        </p:blipFill>
        <p:spPr>
          <a:xfrm>
            <a:off x="533520" y="1295280"/>
            <a:ext cx="3897360" cy="4678560"/>
          </a:xfrm>
          <a:prstGeom prst="rect">
            <a:avLst/>
          </a:prstGeom>
          <a:ln w="0">
            <a:noFill/>
          </a:ln>
        </p:spPr>
      </p:pic>
      <p:pic>
        <p:nvPicPr>
          <p:cNvPr id="64" name="Picture 4" descr="Angina Pectoris | Cedars-Sinai"/>
          <p:cNvPicPr/>
          <p:nvPr/>
        </p:nvPicPr>
        <p:blipFill>
          <a:blip r:embed="rId2"/>
          <a:stretch/>
        </p:blipFill>
        <p:spPr>
          <a:xfrm>
            <a:off x="4800600" y="1447920"/>
            <a:ext cx="3836880" cy="2422440"/>
          </a:xfrm>
          <a:prstGeom prst="rect">
            <a:avLst/>
          </a:prstGeom>
          <a:ln w="0">
            <a:noFill/>
          </a:ln>
        </p:spPr>
      </p:pic>
      <p:pic>
        <p:nvPicPr>
          <p:cNvPr id="65" name="Picture 5" descr="Infarkt | Herba Svet"/>
          <p:cNvPicPr/>
          <p:nvPr/>
        </p:nvPicPr>
        <p:blipFill>
          <a:blip r:embed="rId3"/>
          <a:stretch/>
        </p:blipFill>
        <p:spPr>
          <a:xfrm>
            <a:off x="5181480" y="3809880"/>
            <a:ext cx="3330720" cy="228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16T07:41:30Z</dcterms:created>
  <dc:creator>User</dc:creator>
  <dc:description/>
  <dc:language>en-US</dc:language>
  <cp:lastModifiedBy>Ema Jevtic</cp:lastModifiedBy>
  <dcterms:modified xsi:type="dcterms:W3CDTF">2023-08-24T07:25:30Z</dcterms:modified>
  <cp:revision>164</cp:revision>
  <dc:subject/>
  <dc:title>Slide 1</dc:title>
</cp:coreProperties>
</file>